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09A9-AD20-46A5-BFA3-E9948081F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E083-6702-4AFC-A62E-1B6D8C4AD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storm annotation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AF51-F744-470D-9739-1BF7AA583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AEB6-2B20-445C-A9EB-5826EAEFD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4F7-983B-4070-B3EE-5F3EA7C9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3B7-283E-490A-9AB7-194C5BE5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041-0633-4DCA-8AA1-DD71E128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E98-453C-4194-99E5-AB98E7D4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319-8065-4CF6-ADCC-5077574A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64EA-3376-4A8D-AF7B-CF18721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CDE1-9976-4BEB-9A20-4280A16F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F897-769B-441B-A163-9F7199D5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9C07-EEF3-4613-941F-F8E41E5E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E132-EC36-402E-A484-29C53FBC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467D-8B82-48BB-985E-407F45A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CFB-8D3B-4BB3-A7DC-BF826FAF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69C8-1CA7-4137-B79A-D277A20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BCB6-F104-4E14-A6E3-DBFE34C9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5C67-129F-4203-8142-0A1AAF2D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0361-1F0A-44A7-9515-C524DFD6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2CC0-07EB-444E-AE78-078EE8E2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BA27-12DD-410A-BCF9-158D79DA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4274-10C2-4AD7-8D64-127342C7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C020-0DA1-4430-8C49-12D144A0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7293-33C6-43E0-9329-5EB0A762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1262-757A-42FA-8E61-E76BEF48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204-C969-4A83-B401-9651A652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0708B-31CF-42B2-B944-841C6E34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81FA-3801-4CD3-994D-9132694B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38DB-71BC-43BD-A773-5627F53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B3BD-D914-45BE-B115-681BC61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404E-0E5A-437A-8E05-DDB812F4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4A40-CA73-4EC6-8777-444471E3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44AE7-7445-425C-BE79-4486B7F1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C6BF2-B7B6-46E1-B98B-D9DC4C66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754DA-9E32-471A-9728-69AF5A29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2346C-E032-461A-B3F4-CFF2509F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7B6-AB4A-444C-A643-CAF8C536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309F1-1FA5-449A-8962-C43C2DE9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AABCC-DB05-4FE7-9F32-D3BA8A4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5C94-6DC7-437A-995E-BC0215AF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7CB4-8980-4967-AD86-2FC73C6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439BD-BB36-4A7E-A253-26F0994E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0FD0-1B12-42CE-91FE-C92A711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C304-E244-4388-8C03-E76EFBAC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F16D-CF14-4D8C-9907-AD123579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C965-B2D5-4D6B-BF34-67CAE387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7B13D-C3A0-4833-A174-4DC75092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6ED-4C1C-4DB8-98BF-0375D0D9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E866-971D-4809-932F-0CD70E0E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F5B4-AB7B-4CD9-8B17-ED50BF5C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6D78-9017-458A-A4E4-2C20A01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E6ED-6FF3-4FEA-8BFA-BD85166B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21EF8-6D6C-432B-932D-1CC74B9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E6DB-7593-4684-BFFB-4C4187A4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BC0F-A6C0-4FE3-A295-DA752DE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7D7BD-65E9-4911-8075-D687DB9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16AE-97A1-4C10-83B0-9FF43287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8C34E-CDC4-4812-A644-F129CF8A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466-D173-4EF1-AD7E-EC1C4964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7EAA1-DC00-4CCA-BAEE-A4A7D529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B0B-A046-44D9-965C-F62C391D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4BB-F5D7-410F-B75C-BD5EE8AB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858-488C-4FF4-8B42-AA98B453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D25-74B4-4F55-88CF-5861DB2125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3E4B-DE0D-4C01-A54E-3BD0206C5E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8CF-4DD1-414A-A463-1B3047904C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27BE-7851-44EF-B921-8B10B7662F89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E3EE-4EFF-4680-A0CC-47090A4E21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WRITING TO LEAR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LINCOLN SMALL GROUP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APRIL 18, 2012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FLECTION ON STUDENT WORK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worked or what were you pleased with and why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would you change and why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OVING TO A DEEPER LEVEL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makes a writing opportunity meaningful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expectations do you have for the writing students do for you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47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-How do you communicate those expectations to your students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288000"/>
            <a:ext cx="7521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8080" y="106668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ransition your students from 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absorbing information 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or a text to 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responding in a meaningful way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Lower level thinking to higher level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990720" y="3429000"/>
            <a:ext cx="6933960" cy="603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0" autoRev="1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ODEL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914400"/>
            <a:ext cx="752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-Read excerpts from Angela Peery’s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Writing Matter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*what could you annotate while reading this selection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-information about writing and students, ideas for writing, MVP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*how could you annotate these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ROM LOWER LEVEL TO HIGHER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. Remember/Recall- (graphic organizer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. Understand- (graphic organizer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3. Analyze/Evaluate- (written response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FOR NEXT TIME (APRIL 2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Franklin Gothic Medium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ring back a piece of writing that you feel is a meaningful writing opportunity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ring back a plan for this kind of meaningful writing opportun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2:18Z</dcterms:created>
  <dc:creator>Curto, Sara</dc:creator>
  <dc:description/>
  <dc:language>en-US</dc:language>
  <cp:lastModifiedBy>Curto, Sara</cp:lastModifiedBy>
  <dcterms:modified xsi:type="dcterms:W3CDTF">2012-04-09T16:28:12Z</dcterms:modified>
  <cp:revision>13</cp:revision>
  <dc:subject/>
  <dc:title>Writing to Learn Lincoln Small Group</dc:title>
</cp:coreProperties>
</file>